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E676-0A4B-4227-BC26-D4BB04394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1822F-1269-4223-A712-ACE6E54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21365-CFDA-4749-8FCC-1F105FE75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96D15-F075-4D97-8C24-C100FB5E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1647-C257-46D5-BF25-F8C23DFE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7423F-0FC3-4B6B-8F5A-6AEFCC696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B483F-4278-4208-8E76-D0CB72E9D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FB19-1C2E-4E2E-A65A-DC9E6644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9CAA-0725-48E4-BA53-8C9E3002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18446-2AE6-4F35-B247-FD524E98D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BB70-F709-45E8-949B-1630EDA1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C3708-32F5-4EFD-B211-CA863D75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35B8A-CF74-4F25-B826-0066215C5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6DFE0-F494-4C1B-8010-89889D28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A3E17-3BA0-4C8C-88F4-A75BCFCC0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3101E-0B5A-402C-A955-89CFAEA8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3B1D-9FBF-4214-9558-132CD0877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84A29-3E7F-4465-A72A-2768A61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A77C3-430F-49A1-9ADF-BF789330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5DA0D-DD22-4153-97E7-A4C7D9DB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6B27D-D8ED-49B7-9908-93605248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DD8D-9887-4CB3-86A2-322D4BE3E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85FDE-8DEB-42C3-928C-E763B27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4A26E-C81F-4BE1-981F-B93C0D87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8623-CE48-4366-9433-7E562E27B0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97360" y="274680"/>
              <a:ext cx="1548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97360" y="409680"/>
              <a:ext cx="1548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620640" y="3583080"/>
                <a:ext cx="62928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858680" y="1690560"/>
                <a:ext cx="6292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858680" y="2324160"/>
                <a:ext cx="6292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620640" y="2948040"/>
                <a:ext cx="62928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7117-01B6-422A-BCB0-4A9E2EB4E17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E068-883E-4AA0-B855-84127D5989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C:\Users\Бюджет\Desktop\2.4. 2022 год\Герб.jpg"/>
          <p:cNvPicPr/>
          <p:nvPr/>
        </p:nvPicPr>
        <p:blipFill>
          <a:blip r:embed="rId1"/>
          <a:stretch/>
        </p:blipFill>
        <p:spPr>
          <a:xfrm>
            <a:off x="7429680" y="1042920"/>
            <a:ext cx="2304720" cy="328932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1"/>
          <p:cNvSpPr/>
          <p:nvPr/>
        </p:nvSpPr>
        <p:spPr>
          <a:xfrm>
            <a:off x="560520" y="1197000"/>
            <a:ext cx="6869160" cy="47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для граждан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2025 го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а плановый период 2026 и 2027 год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 на основании проекта решения Собрания представителей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го района Похвистневский «О бюджете муниципального района Похвистневский Самарской области на 2025 год и на плановый период 2026 и 2027 годов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924F8-FE83-4502-8F05-2EAB2012763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о разделу «Социальная политика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88880" y="1154160"/>
          <a:ext cx="9144000" cy="5464080"/>
        </p:xfrm>
        <a:graphic>
          <a:graphicData uri="http://schemas.openxmlformats.org/drawingml/2006/table">
            <a:tbl>
              <a:tblPr/>
              <a:tblGrid>
                <a:gridCol w="5904000"/>
                <a:gridCol w="1295280"/>
                <a:gridCol w="1944720"/>
              </a:tblGrid>
              <a:tr h="456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социальную политику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969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Доплата к пенсиям муниципальных служащи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9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Возмещение  недополученных доходов по перевозке отдельных категорий граждан за счет областных сред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4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Осуществление денежных выплат на содержание детей, находящихся под опекой за счет средств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4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Предоставление соц. выплат на приобретение жилья  молодым семьям (за счет средств областного и местного бюдже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6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Обеспечение предоставления жилых помещений детям – сиротам за счет средств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 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МП «Доступная среда в м.р. Похвитснев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5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 Подпрограмма «Повышение рождаемости в муниципальном район Похвистневский» (социальная поддержка при рождении 2 ребен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Подпрограмма «Обеспечение деятельности МКУ «Управление по вопросам семьи, опеки и попечительства м. р. Похвистневский»  (за счет средств обл. и мест. бюдже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) Предоставление соц. выплат на приобретение жилья семьям, выбывшим в связи с достижением одним (обоими) супругами возраста 36 лет после 01.01.2025 (обл бюдже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B7B-A58F-4307-9431-71D5CBEE5BA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 по разделу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«Физическая культура и спорт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88880" y="1133640"/>
          <a:ext cx="8928000" cy="2714400"/>
        </p:xfrm>
        <a:graphic>
          <a:graphicData uri="http://schemas.openxmlformats.org/drawingml/2006/table">
            <a:tbl>
              <a:tblPr/>
              <a:tblGrid>
                <a:gridCol w="5040360"/>
                <a:gridCol w="1295280"/>
                <a:gridCol w="2592360"/>
              </a:tblGrid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физическую культуру и спорт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61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731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Обеспечение деятельности МБУ Комитет по физической культуре, спорту и молодежной политики муниципального района Похвистневск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5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5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П «Профилактика наркомании, лечение и реабилитация наркозависимой части населения муниципального района Похвистневский» (проведение мероприятий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B6AA3-246F-4C77-9B6D-26F005B9F5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– 2027 годы с учетом средств вышестоящих бюджетов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88880" y="1197000"/>
          <a:ext cx="9001080" cy="4890960"/>
        </p:xfrm>
        <a:graphic>
          <a:graphicData uri="http://schemas.openxmlformats.org/drawingml/2006/table">
            <a:tbl>
              <a:tblPr/>
              <a:tblGrid>
                <a:gridCol w="4392720"/>
                <a:gridCol w="1150920"/>
                <a:gridCol w="1008000"/>
                <a:gridCol w="1152720"/>
                <a:gridCol w="1296720"/>
              </a:tblGrid>
              <a:tr h="6472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6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7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ходы – всего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6 7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 26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1 50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логовые и неналоговы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2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 2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 5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мездные поступления всего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8 488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4 00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2 95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ации всег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6 0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 06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дотации на выравнивание бюджетной обеспеч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 4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ctr" pos="2462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4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дотации на поддержку мер по обеспечению сбалансированности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 5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вен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6 876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1 66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 52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субси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 83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7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7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2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 6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ходы – всего, в т.ч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1 716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8 587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3 363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фицит (-), профицит (+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5 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 3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1 85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ельный уровень дефицита,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1626-420B-434A-A698-9CDF3874DF3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3"/>
          <p:cNvSpPr/>
          <p:nvPr/>
        </p:nvSpPr>
        <p:spPr>
          <a:xfrm>
            <a:off x="488880" y="404640"/>
            <a:ext cx="92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доходов бюджета района н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5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Диаграмма 3" descr=""/>
          <p:cNvPicPr/>
          <p:nvPr/>
        </p:nvPicPr>
        <p:blipFill>
          <a:blip r:embed="rId1"/>
          <a:stretch/>
        </p:blipFill>
        <p:spPr>
          <a:xfrm>
            <a:off x="1136520" y="930240"/>
            <a:ext cx="8167680" cy="571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E702-15A4-44F9-874C-9B3571AA33F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488880" y="404640"/>
            <a:ext cx="921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Структура расходов бюджета района на 2025 год в общей сумме 641 716,5 тыс. руб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Диаграмма 1" descr=""/>
          <p:cNvPicPr/>
          <p:nvPr/>
        </p:nvPicPr>
        <p:blipFill>
          <a:blip r:embed="rId1"/>
          <a:stretch/>
        </p:blipFill>
        <p:spPr>
          <a:xfrm>
            <a:off x="438120" y="1074600"/>
            <a:ext cx="9174240" cy="560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506E-FF52-4977-95D5-60AE058B6BC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по разделу «Национальная экономика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88880" y="1017720"/>
          <a:ext cx="9001080" cy="5283000"/>
        </p:xfrm>
        <a:graphic>
          <a:graphicData uri="http://schemas.openxmlformats.org/drawingml/2006/table">
            <a:tbl>
              <a:tblPr/>
              <a:tblGrid>
                <a:gridCol w="5761080"/>
                <a:gridCol w="1295280"/>
                <a:gridCol w="1944720"/>
              </a:tblGrid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национальную экономику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937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Сельское хозяйство, из них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 55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правления с/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36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на развитие молочного скотовод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770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убсидии сельскохозяйственным товаропроизводителям на содержание маточного поголовья крупного рогатого ско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6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роприятия по осуществлению деятельности по обращению с животными без владельцев за счет средств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ие работ по уничтожению карантинных сорняков за счет средств местного  и областн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6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П «Развитие водохозяйственного комплекса в м.р. Похвистневский» (ОСАГО, декларации безопаснос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5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Оплата лизинговых платежей за приобретенные автобус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4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МП "Осуществление регулярных перевозок по регулируемым тарифам на территории м.р.Похвистнев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Образование земельных участков, предоставляющих гражданам, принимавших участие в СВО (членам их семей), имеющих право на бесплатное приобретение (средства областного и местного бюдже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3A19-027A-4999-A352-458F31A5C9F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 по разделу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«Жилищно-коммунальное хозяйство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88880" y="1465200"/>
          <a:ext cx="8928000" cy="3108240"/>
        </p:xfrm>
        <a:graphic>
          <a:graphicData uri="http://schemas.openxmlformats.org/drawingml/2006/table">
            <a:tbl>
              <a:tblPr/>
              <a:tblGrid>
                <a:gridCol w="5543640"/>
                <a:gridCol w="1368360"/>
                <a:gridCol w="201600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жилищно-коммунальное хозяйство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 70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Приобретение мусоросборников (средства областного и местного бюджет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125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) Устройство контейнерных площадок (средства областного и местного бюдже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) Ремонт контейнерных площадок (средства областного и местного бюджет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) Мероприятия для стимулирования и благоприятных условий для инициативной деятельности жителей по благоустройству придомовых территор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9380E-1644-4A9F-950D-7529DCD56AF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Box 3"/>
          <p:cNvSpPr/>
          <p:nvPr/>
        </p:nvSpPr>
        <p:spPr>
          <a:xfrm>
            <a:off x="488880" y="404640"/>
            <a:ext cx="921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 по разделу «Образование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488880" y="1052640"/>
          <a:ext cx="8785440" cy="5383080"/>
        </p:xfrm>
        <a:graphic>
          <a:graphicData uri="http://schemas.openxmlformats.org/drawingml/2006/table">
            <a:tbl>
              <a:tblPr/>
              <a:tblGrid>
                <a:gridCol w="5616720"/>
                <a:gridCol w="1079280"/>
                <a:gridCol w="2089440"/>
              </a:tblGrid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4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образование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8 412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Содержание образовательных учреждений (МТО), всего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 18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П «Обеспечение пожарной безопасности образовательных учреждений» (МТО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Замена систем пожарной сигнализации со сроком службы 10 лет и более в СОШ (обл+р-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3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) Капитальный ремонт СОШ с. Савруха Малоибряйкино,  д/с Подбельск и благоустройство прилегающей территории (обл+р-н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 576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) МП «Обеспечение антитеррористической безопасности общеобразовательных учрежден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66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) Содержание ДШИ всего, в том числ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644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 них расходы на ФОТ  (из расчета средней з/пл  58 077руб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25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) Содержание ДМО с МП «Молодежь м.р. Похвистнев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) Мероприятия  с несовершеннолетними в период канику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2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) Обеспечение отдыха и оздоровления дете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4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) МП «Повышение безопасности дорожного движ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) МП «Педагогические кадры»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9DB2-8808-49F1-BEB1-98601E1EE98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Box 3"/>
          <p:cNvSpPr/>
          <p:nvPr/>
        </p:nvSpPr>
        <p:spPr>
          <a:xfrm>
            <a:off x="488880" y="404640"/>
            <a:ext cx="92170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 год по разделу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«Культура, кинематография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88880" y="1197000"/>
          <a:ext cx="8856720" cy="2843280"/>
        </p:xfrm>
        <a:graphic>
          <a:graphicData uri="http://schemas.openxmlformats.org/drawingml/2006/table">
            <a:tbl>
              <a:tblPr/>
              <a:tblGrid>
                <a:gridCol w="4392720"/>
                <a:gridCol w="1727280"/>
                <a:gridCol w="2736720"/>
              </a:tblGrid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культуру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 51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Обеспечение деятельности  учреждений культуры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 533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из них расходы на ФОТ  (из расчета средней з/п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3 827ру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 66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Противопожарные мероприятия учреждений культуры, 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Организация и проведение социально-значимых меропри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Номер слайда 1"/>
          <p:cNvSpPr/>
          <p:nvPr/>
        </p:nvSpPr>
        <p:spPr>
          <a:xfrm>
            <a:off x="7594560" y="6400800"/>
            <a:ext cx="231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043F8-D14E-4FA9-86A1-3EACE8B4A18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488880" y="404640"/>
            <a:ext cx="92170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</a:rPr>
              <a:t>Основные показатели проекта бюджета района на 2025 год по разделу «Здравоохранение»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469880" y="104760"/>
            <a:ext cx="9618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3399ff"/>
                </a:solidFill>
                <a:latin typeface="Times New Roman"/>
              </a:rPr>
              <a:t>Финансовое управление Администрации муниципального района Похвистневский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88880" y="1197000"/>
          <a:ext cx="8640720" cy="2243160"/>
        </p:xfrm>
        <a:graphic>
          <a:graphicData uri="http://schemas.openxmlformats.org/drawingml/2006/table">
            <a:tbl>
              <a:tblPr/>
              <a:tblGrid>
                <a:gridCol w="4392720"/>
                <a:gridCol w="2087640"/>
                <a:gridCol w="2160360"/>
              </a:tblGrid>
              <a:tr h="5176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д. изм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ект на 2025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РАСХОДОВ на здравоохранение, 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) МП «Снижение смертности на территории муниципального района Похвистнев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) МП «Медицинские кадры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) МП «Укрепление общественного здоровья среди населения м.р. Похвистневский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с. руб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2T06:47:03Z</dcterms:created>
  <dc:creator>USER</dc:creator>
  <dc:description/>
  <dc:language>en-US</dc:language>
  <cp:lastModifiedBy>Елена Рябчикова</cp:lastModifiedBy>
  <cp:lastPrinted>2024-11-29T08:15:12Z</cp:lastPrinted>
  <dcterms:modified xsi:type="dcterms:W3CDTF">2025-05-07T05:23:28Z</dcterms:modified>
  <cp:revision>1672</cp:revision>
  <dc:subject/>
  <dc:title>Слайд №1. Динамика расходов областного бюджета в 1кв. 2008-2009гг.</dc:title>
</cp:coreProperties>
</file>